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D82-F3D8-4170-80DC-75BF46EB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A7E-1369-4CE8-994F-EAA5EA7A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D0E-E819-4FF6-9AEC-636346B7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69F-4A9F-4319-9E2F-A1C73E0F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3040B-A39F-439D-ACCB-285069B6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3EBE0-3D88-4861-837C-CF83FF6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A4C27-35C3-469D-9A68-4DF93FE2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FE801-6D72-4829-AA69-49E1F04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F9458-E4D8-4F2A-B9AF-46A0E6D9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1FE45-41ED-4438-BA73-6B720118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1EA6-8F76-433C-BF5E-9ED5122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38C-2FB4-44C3-86E1-C78D1C2F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B59F-9B7B-4C19-8DEB-BA67DFA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1068A-BE65-4D21-9D83-028AE8E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27BFC-FF31-4DA4-8BA4-E43582C1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665DE-3D06-49D0-B555-F6282B07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9A881-7A39-4966-91BD-7660EBC0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A15-DA25-4617-9920-6B517A8D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772-9FA9-421D-8F22-CBB97495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DA-EAB0-4367-9917-87D96CE1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C8D-2E22-4B8B-9E89-9B5D20C2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B79-452E-4AF2-824E-AD413989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4D2-FBB0-4AA0-A3C4-ACE65F9D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EB7-AD73-41EF-82D3-01AB656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91CF-5B10-4081-8877-025AD0C2D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DFD5-7DD3-4E09-B00A-92228FB60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hulsey.com/hatchillustration/jhatch_tyrrell_formula_one.jpeg&amp;imgrefurl=http://www.khulsey.com/hatchillustration/jhatch_tyrrell_formula_one.html&amp;h=300&amp;w=720&amp;sz=76&amp;hl=en&amp;start=15&amp;tbnid=DoijlVWgZ96cYM:&amp;tbnh=58&amp;tbnw=140&amp;prev=/images%3Fq%3Dformula%2Bone%2Brace%2Bcar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0000"/>
                </a:solidFill>
                <a:latin typeface="Tahoma"/>
              </a:rPr>
              <a:t>PETER AT THE RA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0000"/>
                </a:solidFill>
                <a:latin typeface="Tahoma"/>
              </a:rPr>
              <a:t>BY STEVEN LEBR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hapt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on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9e0000"/>
                </a:solidFill>
                <a:latin typeface="Tahoma"/>
              </a:rPr>
              <a:t>Peter wants to go to a Formula One race in Montreal. A Formula One race is called a Grand Prix. The race will be held on the weekend of June 12,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a lot about formula one race c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gine sits in back of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spension connects the wheels to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dywork covers the eng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761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eter comes to the races, they are one man short for the r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Peter is asked to drive one of the c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scared that he doesn’t know how to dri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7238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e race starts. They start to speed around the track. Peter is doing very well but then……his car spins out of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His clothes keep him safe from fire but he quickly has to get out of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Luckily, he is not dead but he doesn’t want to race any time s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91120" y="4543560"/>
            <a:ext cx="49528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had a great opportunity but he likes fixing cars better. It is safer and he doesn’t have to travel as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now on Peter will watch the Formula One races on tele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6:25:21Z</dcterms:created>
  <dc:creator>steven.lebreton</dc:creator>
  <dc:description/>
  <dc:language>en-US</dc:language>
  <cp:lastModifiedBy>steven.lebreton</cp:lastModifiedBy>
  <dcterms:modified xsi:type="dcterms:W3CDTF">2007-05-17T16:41:37Z</dcterms:modified>
  <cp:revision>7</cp:revision>
  <dc:subject/>
  <dc:title>PETER AT THE RA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